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D13-EEF4-479E-B56A-A23E8E09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885-2D74-493D-912D-4FB21AC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EE6-8622-4B8A-941E-B77B0C52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AE2-A4ED-4BFE-93C0-7BC1FAE3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FB0-22BB-42CA-8206-F979A3F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BD8-EF94-4F5A-BF97-9504BD3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937-527B-4B35-95D1-1C9806A5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BED-80D6-447C-B554-2B06EA4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B1A-3CDB-445A-B830-BEA2C148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1BC-D461-4D9D-BFA5-08D246A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37B-3141-411F-AE60-ED1D3F5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0F-E8AE-439A-9828-7DC7465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F86-EB00-4FFE-AE39-6260BC123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paci.edu/DICE/AMICO/Demo/amico-2in1-DTD.tx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0880" y="-343080"/>
            <a:ext cx="18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17680"/>
            <a:ext cx="16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/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200400" y="37335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9400" y="4800600"/>
            <a:ext cx="4654800" cy="1510560"/>
            <a:chOff x="2309400" y="4800600"/>
            <a:chExt cx="4654800" cy="1510560"/>
          </a:xfrm>
        </p:grpSpPr>
        <p:sp>
          <p:nvSpPr>
            <p:cNvPr id="47" name=""/>
            <p:cNvSpPr/>
            <p:nvPr/>
          </p:nvSpPr>
          <p:spPr>
            <a:xfrm>
              <a:off x="2654280" y="5486400"/>
              <a:ext cx="699840" cy="761760"/>
            </a:xfrm>
            <a:prstGeom prst="flowChartMagneticDisk">
              <a:avLst/>
            </a:prstGeom>
            <a:solidFill>
              <a:srgbClr val="45ff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0360" y="5790960"/>
              <a:ext cx="446040" cy="337320"/>
            </a:xfrm>
            <a:prstGeom prst="rect">
              <a:avLst/>
            </a:prstGeom>
            <a:solidFill>
              <a:srgbClr val="4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254480" y="5486400"/>
              <a:ext cx="761400" cy="761400"/>
              <a:chOff x="4254480" y="5486400"/>
              <a:chExt cx="761400" cy="761400"/>
            </a:xfrm>
          </p:grpSpPr>
          <p:sp>
            <p:nvSpPr>
              <p:cNvPr id="50" name=""/>
              <p:cNvSpPr/>
              <p:nvPr/>
            </p:nvSpPr>
            <p:spPr>
              <a:xfrm>
                <a:off x="4406760" y="5486400"/>
                <a:ext cx="609120" cy="609120"/>
              </a:xfrm>
              <a:prstGeom prst="flowChartMagneticTape">
                <a:avLst/>
              </a:prstGeom>
              <a:solidFill>
                <a:srgbClr val="45ff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330440" y="5562360"/>
                <a:ext cx="609120" cy="609120"/>
              </a:xfrm>
              <a:prstGeom prst="flowChartMagneticTape">
                <a:avLst/>
              </a:prstGeom>
              <a:solidFill>
                <a:srgbClr val="45ff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254480" y="5638320"/>
                <a:ext cx="609480" cy="609480"/>
              </a:xfrm>
              <a:prstGeom prst="flowChartMagneticTape">
                <a:avLst/>
              </a:prstGeom>
              <a:solidFill>
                <a:srgbClr val="45ff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4406760" y="5790960"/>
              <a:ext cx="401760" cy="520200"/>
            </a:xfrm>
            <a:prstGeom prst="rect">
              <a:avLst/>
            </a:prstGeom>
            <a:solidFill>
              <a:srgbClr val="4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2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78360" y="5562360"/>
              <a:ext cx="838080" cy="604800"/>
            </a:xfrm>
            <a:prstGeom prst="flowChartMultidocument">
              <a:avLst/>
            </a:prstGeom>
            <a:solidFill>
              <a:srgbClr val="45ff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31720" y="5715000"/>
              <a:ext cx="414000" cy="307080"/>
            </a:xfrm>
            <a:prstGeom prst="rect">
              <a:avLst/>
            </a:prstGeom>
            <a:solidFill>
              <a:srgbClr val="4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309400" y="4800600"/>
              <a:ext cx="1378440" cy="611640"/>
              <a:chOff x="2309400" y="4800600"/>
              <a:chExt cx="1378440" cy="611640"/>
            </a:xfrm>
          </p:grpSpPr>
          <p:sp>
            <p:nvSpPr>
              <p:cNvPr id="57" name=""/>
              <p:cNvSpPr/>
              <p:nvPr/>
            </p:nvSpPr>
            <p:spPr>
              <a:xfrm>
                <a:off x="2309400" y="5105160"/>
                <a:ext cx="1378440" cy="307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XML-Wrappe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49360" y="4800600"/>
                <a:ext cx="129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M-Wrapp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985560" y="4800600"/>
              <a:ext cx="1378440" cy="611640"/>
              <a:chOff x="3985560" y="4800600"/>
              <a:chExt cx="1378440" cy="61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985560" y="5105160"/>
                <a:ext cx="1378440" cy="307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XML-Wrappe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25520" y="4800600"/>
                <a:ext cx="129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M-Wrapp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585760" y="4800600"/>
              <a:ext cx="1378440" cy="611640"/>
              <a:chOff x="5585760" y="4800600"/>
              <a:chExt cx="1378440" cy="611640"/>
            </a:xfrm>
          </p:grpSpPr>
          <p:sp>
            <p:nvSpPr>
              <p:cNvPr id="63" name=""/>
              <p:cNvSpPr/>
              <p:nvPr/>
            </p:nvSpPr>
            <p:spPr>
              <a:xfrm>
                <a:off x="5585760" y="5105160"/>
                <a:ext cx="1378440" cy="307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XML-Wrappe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25720" y="4800600"/>
                <a:ext cx="129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M-Wrappe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>
            <a:hlinkClick r:id="rId1"/>
          </p:cNvPr>
          <p:cNvSpPr/>
          <p:nvPr/>
        </p:nvSpPr>
        <p:spPr>
          <a:xfrm>
            <a:off x="2362320" y="1523880"/>
            <a:ext cx="4419360" cy="1990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95480" y="3230640"/>
            <a:ext cx="595080" cy="530640"/>
            <a:chOff x="2895480" y="3230640"/>
            <a:chExt cx="595080" cy="530640"/>
          </a:xfrm>
        </p:grpSpPr>
        <p:sp>
          <p:nvSpPr>
            <p:cNvPr id="67" name=""/>
            <p:cNvSpPr/>
            <p:nvPr/>
          </p:nvSpPr>
          <p:spPr>
            <a:xfrm>
              <a:off x="2895480" y="3230640"/>
              <a:ext cx="595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3515040"/>
              <a:ext cx="595080" cy="246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 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962520" y="3230640"/>
            <a:ext cx="595080" cy="530640"/>
            <a:chOff x="3962520" y="3230640"/>
            <a:chExt cx="595080" cy="530640"/>
          </a:xfrm>
        </p:grpSpPr>
        <p:sp>
          <p:nvSpPr>
            <p:cNvPr id="70" name=""/>
            <p:cNvSpPr/>
            <p:nvPr/>
          </p:nvSpPr>
          <p:spPr>
            <a:xfrm>
              <a:off x="3962520" y="3230640"/>
              <a:ext cx="595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62520" y="3515040"/>
              <a:ext cx="595080" cy="246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 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90960" y="3230640"/>
            <a:ext cx="595080" cy="530640"/>
            <a:chOff x="4890960" y="3230640"/>
            <a:chExt cx="595080" cy="530640"/>
          </a:xfrm>
        </p:grpSpPr>
        <p:sp>
          <p:nvSpPr>
            <p:cNvPr id="73" name=""/>
            <p:cNvSpPr/>
            <p:nvPr/>
          </p:nvSpPr>
          <p:spPr>
            <a:xfrm>
              <a:off x="4890960" y="3230640"/>
              <a:ext cx="595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90960" y="3515040"/>
              <a:ext cx="595080" cy="246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 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38240" y="1362240"/>
            <a:ext cx="1873800" cy="307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 (Integrated Vi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0" y="1752480"/>
            <a:ext cx="2133720" cy="1067760"/>
            <a:chOff x="4572000" y="1752480"/>
            <a:chExt cx="2133720" cy="1067760"/>
          </a:xfrm>
        </p:grpSpPr>
        <p:sp>
          <p:nvSpPr>
            <p:cNvPr id="77" name=""/>
            <p:cNvSpPr/>
            <p:nvPr/>
          </p:nvSpPr>
          <p:spPr>
            <a:xfrm>
              <a:off x="4572000" y="1752480"/>
              <a:ext cx="2133720" cy="10677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di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645880" y="1828800"/>
              <a:ext cx="942840" cy="581400"/>
              <a:chOff x="5645880" y="1828800"/>
              <a:chExt cx="942840" cy="581400"/>
            </a:xfrm>
          </p:grpSpPr>
          <p:sp>
            <p:nvSpPr>
              <p:cNvPr id="79" name=""/>
              <p:cNvSpPr/>
              <p:nvPr/>
            </p:nvSpPr>
            <p:spPr>
              <a:xfrm>
                <a:off x="5645880" y="1828800"/>
                <a:ext cx="942840" cy="2764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FL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ule proc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45880" y="2133720"/>
                <a:ext cx="942840" cy="276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P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ule proc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721120" y="2438280"/>
              <a:ext cx="851400" cy="246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raph pro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54800" y="2387520"/>
              <a:ext cx="837720" cy="246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SB 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47520" y="2057400"/>
            <a:ext cx="145944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grated Vi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inition I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266720" y="38098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181480" y="3809880"/>
            <a:ext cx="10540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00600" y="838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8760" y="426708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M(S) 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M(S)+KB(S)+CON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26160" y="4114800"/>
            <a:ext cx="1357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M Queries &amp;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exchanged in XML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60960" y="36878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M Plug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486040" y="35049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90120" y="1752480"/>
            <a:ext cx="1439280" cy="678960"/>
            <a:chOff x="690120" y="1752480"/>
            <a:chExt cx="1439280" cy="678960"/>
          </a:xfrm>
        </p:grpSpPr>
        <p:sp>
          <p:nvSpPr>
            <p:cNvPr id="93" name=""/>
            <p:cNvSpPr/>
            <p:nvPr/>
          </p:nvSpPr>
          <p:spPr>
            <a:xfrm>
              <a:off x="872640" y="1752480"/>
              <a:ext cx="1256760" cy="520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main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6080" y="1834920"/>
              <a:ext cx="1256760" cy="520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main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0120" y="1911240"/>
              <a:ext cx="1256760" cy="520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main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0840" y="2514600"/>
            <a:ext cx="1425240" cy="678960"/>
            <a:chOff x="690840" y="2514600"/>
            <a:chExt cx="1425240" cy="678960"/>
          </a:xfrm>
        </p:grpSpPr>
        <p:sp>
          <p:nvSpPr>
            <p:cNvPr id="97" name=""/>
            <p:cNvSpPr/>
            <p:nvPr/>
          </p:nvSpPr>
          <p:spPr>
            <a:xfrm>
              <a:off x="859320" y="2514600"/>
              <a:ext cx="1256760" cy="520200"/>
            </a:xfrm>
            <a:prstGeom prst="rect">
              <a:avLst/>
            </a:prstGeom>
            <a:solidFill>
              <a:srgbClr val="ff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main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120" y="2597040"/>
              <a:ext cx="1256760" cy="520200"/>
            </a:xfrm>
            <a:prstGeom prst="rect">
              <a:avLst/>
            </a:prstGeom>
            <a:solidFill>
              <a:srgbClr val="ff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main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0840" y="2673360"/>
              <a:ext cx="1227600" cy="520200"/>
            </a:xfrm>
            <a:prstGeom prst="rect">
              <a:avLst/>
            </a:prstGeom>
            <a:solidFill>
              <a:srgbClr val="ff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 M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 flipV="1">
            <a:off x="3809880" y="25905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1280" y="259056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00400" y="25905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9680" y="93024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lue” 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185600">
            <a:off x="1331640" y="8740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58" idx="1"/>
            <a:endCxn id="95" idx="1"/>
          </p:cNvCxnSpPr>
          <p:nvPr/>
        </p:nvCxnSpPr>
        <p:spPr>
          <a:xfrm rot="10800000">
            <a:off x="689760" y="2171160"/>
            <a:ext cx="1659600" cy="2783160"/>
          </a:xfrm>
          <a:prstGeom prst="bentConnector3">
            <a:avLst>
              <a:gd name="adj1" fmla="val 113972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58" idx="0"/>
            <a:endCxn id="99" idx="2"/>
          </p:cNvCxnSpPr>
          <p:nvPr/>
        </p:nvCxnSpPr>
        <p:spPr>
          <a:xfrm flipV="1" rot="16200000">
            <a:off x="1347120" y="3150720"/>
            <a:ext cx="1607400" cy="1692720"/>
          </a:xfrm>
          <a:prstGeom prst="bentConnector3">
            <a:avLst>
              <a:gd name="adj1" fmla="val 50022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428400" y="3602160"/>
            <a:ext cx="83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209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81080" y="243828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8:27:15Z</dcterms:created>
  <dc:creator>Bertram Ludaescher</dc:creator>
  <dc:description/>
  <dc:language>en-US</dc:language>
  <cp:lastModifiedBy>Bertram Ludaescher</cp:lastModifiedBy>
  <cp:lastPrinted>2001-10-03T09:10:49Z</cp:lastPrinted>
  <dcterms:modified xsi:type="dcterms:W3CDTF">2001-10-03T09:16:42Z</dcterms:modified>
  <cp:revision>22</cp:revision>
  <dc:subject/>
  <dc:title>No Slide Title</dc:title>
</cp:coreProperties>
</file>